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A60-B05C-450D-9581-789E586A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7B7-690B-40A7-B56F-778E5852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4BA-9DEA-4249-B2C9-886678A6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523-0392-4A22-A951-2E62DB00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2FE1-CFA3-441B-8ADA-E87589DD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47E8-ECD8-40BB-9980-E55E53A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660-D15E-487E-9BA3-ED0C42C4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16F4-9551-43BE-90B3-27E43D0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2BE-CA4C-4319-8DAB-0C60B864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9F0D-FA4C-45B7-8847-A00C1E1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74E2-0EB1-492C-995F-11ACE6D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AE5-5CC1-4096-BF94-CB9EEB2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AF2-4F53-4664-ADAE-8E3D85B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491C-F592-483B-AB95-2DBA325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2B48-555F-4854-9DBC-BCAD9EDE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460-94AF-4F90-81CE-59C8D98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A6B8-38E2-4658-9840-BCD3CDCB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4BA-3C9D-49E0-B420-AA86B36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9E3-67A8-46BA-AE98-CC58ABF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63D-108D-404E-8B81-78904E3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C7F-3EAF-43E8-81FF-A8B752D6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229-8E01-45A2-9253-0FDC6A4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AE7-7BAF-4A99-BB4C-2C89629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520-5399-4210-B906-46EBDA8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8DED-B713-4AA7-8137-3AE3DB0F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B61-E3AC-4A3B-9FC1-60667C7B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Thomas S. Kuh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발제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정동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4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ajor epicycle &amp; minor epicycle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의 두가지 기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ajor epicycle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 등의 현상에 대한 질적인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론과 관찰 사이의 양적인 차이에 대한 미세조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가 없앤 주전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ajor epicycles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not minor epicycle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5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ccentric &amp; Equan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14842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ccentri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5184720" cy="217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24720" y="32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qua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tolemy%20equant%202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7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5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y &amp; Ptolemaic Astronom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의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lmages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난 천문학의 성과 종합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complete, detailed &amp; quantitative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동안 개발된 수학적 도구 체계적으로 사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행성의 운동 양적으로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천문학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후속 작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심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대심 추가 또는 제거하는 작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법에 대한 근본적 수정 없었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278720" indent="-38736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도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quant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를 제외하면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점에서 다를 바 없음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1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“It Never quite Worked”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과의 불일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질적 설명의 성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양적 불일치의 지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</a:t>
            </a: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도 마찬가지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가 매달린 문제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확성 위한 단순성의 감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불만</a:t>
            </a: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 그도 해결 못함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ngevity of Ptolemaic System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의 장수가 던지는 질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떻게 불완전한 체계가 천문학자들을 그렇게 오랜 기간 동안 사로잡을 수 있었는가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의 지연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떻게 그 심리적 통제가 풀릴 수 있었는가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의 성공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zh-CN" sz="3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역사적 문제이자 개념 도식의 본성과 구조에 대한 문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3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gical Outline for Revolu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과 이론의 관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현실적인 관찰을 만족시키는 두 개 이상의 대안적 이론 언제나 가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잠재적 차이는 있을 수 있음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잠재적 차이를 밝히기 위한 새로운 연구를 위해서는 새 이론을 미리 믿어야 함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 그에 대한 자신감 필요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오류가능하다는 위험부담 존재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에 대한 논리적 개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론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의 불일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임시변통적 해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에 대한 불만으로 새로운 이론 등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4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gical Outline vs. Histor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에 대한 논리적 개요와 역사적 사실과의 불일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는 관찰과의 불일치에도 불구하고 엄청 장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천문학에 대한 서로 다른 태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임시변통적 해결책으로 가득찬 괴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동시대의 천문학자들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런 작업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궁극적으로 완벽히 작동할 것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의 장수 원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초의 인상적인 성공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band-wagon effec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 외의 맥락과의 연관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상계의 맥락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신적 맥락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 2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 and the Revolu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Motives for Innovation – Copernicus’ Prefac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’ Physics and Cosmology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Two Sphere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Su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Planet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Harmony of the Copernican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Revolution by Degree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 and the Revolution</a:t>
            </a:r>
            <a:br>
              <a:rPr sz="3400"/>
            </a:br>
            <a:r>
              <a:rPr b="0" i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De Revolutionibus Orbium Caelestium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을 시작한 책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회전에 관하여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1543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 자체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기치 못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적 귀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을 제외하면 전통적인 천문학에 의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 개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학적 기법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원운동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심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입부를 제외하면 난해한 수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문가를 대상으로 한 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혁명을 시작한 책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과거 전통의 최정점이자 새로운 전통의 씨앗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이는 혁명을 시작한 모든 저작의 공통점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Q1.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떻게 혁신이 전통에서 비롯될 수 있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Q2.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떻게 계승자에게 그 혁신이 인식될 수 있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tives for Innovation (1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nsterious Ptolemaic Astronom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에 대한 불만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괴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체계의 남발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럼에도 이론과 관찰의 계속된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일하지 않은 원리의 복잡한 사용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조화와 대칭성 훼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플라톤주의의 영향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시간의 효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새로이 누적된 자료 및 오차의 누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오래된 시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잘못된 자료 또한 누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Epicycles and Deferen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Ptolemaic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Anatomy of Scientific Belief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tives for Innovation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athematical Astronomer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코페르니쿠스의 지구 운동 개념은 천문학의 기술적인 문제 해결을 위한 효과적인 기법을 찾다가 나온 부산물이었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회전에 관하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적 귀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 그 자체는 순전히 기술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문적인 천문학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를 움직이게 만든 것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리 행성 천문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not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론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철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 지동설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고대의 지동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Complete, Detailed &amp; Quantitative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천문학적 문제에 대한 정교한 수학적 체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전문가들에게 어쩔 수 없이 수용되게 만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Physics and Cosmology (1)</a:t>
            </a:r>
            <a:br>
              <a:rPr sz="30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First Book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반인을 위한 전문적이지 않은 부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 우주론 내에서 지구 운동 허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의 주요근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콜라 철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Oresme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규칙성은 원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조합 외에는 불가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는 천체와 같이 구형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따라서 지구도 원운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러운 운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왜 담긴 것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아니라 담은 것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 움직여야 하는가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 회전 속도의 문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한한 것은 움직일 수 없다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등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득력 부족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을 원래 믿을 사람에게나 진지하게 읽혀질 부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주된 관심사 아니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Physics and Cosmology (2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Incongruit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부조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은 전통우주의 입장에서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nomal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우주는 전통우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은 우주의 중심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not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유한한 우주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다소 커져야 하긴 했음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을 돌려주는 천구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외각 천구는 정지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운동 원운동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 여전히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– The Two Sphere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지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공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회전축의 연주운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을 통해 천체의 겉보기 회전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문제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반경과 항성천구의 크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평면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horizontal plane)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항성천구를 반으로 자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공전 및 자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반경이 항성천구에 비해 극히 작야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토성과 항성천구 사이의 간격 너무 벌어짐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직관적으로 문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계승자들에 의해 무한 우주론으로 발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– The Su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명력 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순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와 동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가 </a:t>
            </a:r>
            <a:r>
              <a:rPr b="0" lang="zh-CN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더 간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의 문제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크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3880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232360" cy="205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3945240" cy="1855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56000" y="414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회전축의 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– The Plaets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limination of major epicycl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주기 불일치 문제 해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913200" cy="3035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28609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– The Plaets </a:t>
            </a:r>
            <a:r>
              <a:rPr b="0" lang="ko-KR" sz="2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Still Complex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미세조정 위해 여전히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 &amp; eccentric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필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400720" cy="297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5300640"/>
            <a:ext cx="558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정확성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복잡성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관성 나아진 것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또다른 코페르니쿠스라면 자신에 대해 똑같이 비난했을 것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Harmony of the Copernican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실용적 실패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사적 성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은 무엇을 보고 코페르니쿠스주의자가 되었는가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취향의 문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하학적 조화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운동에 대한 질적 설명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 alpha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2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내행성의 최대이각 ‘자연스런’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457800" cy="18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16360" y="321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반경과 주기 사이의 조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384360" cy="177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26920" y="55897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조화와 대칭성에 근거한 증거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실제적인 증거는 아님 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제한된 몇 명에게만 호소력 있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Revolution by Degree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의 출발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 귀결로서의 ‘새로운 조화’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이 푼 문제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중심설의 난점 해결하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의 혁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각 개인으로서는 제한적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작업도구는 전통교육의 산물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원의 제약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한계는 모든 혁명을 시작한 작업의 본질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형적 특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로부터 물려받은 코페르니쿠스의 특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물리적 실재와의 부조화에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상대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관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차적으로 천문학 문제를 푸는 것에 집중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를 움직이게 한 원동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 3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Reception of Copernicus’ Work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ycho Brahe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Johannes Kepler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Galileo Galilei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Decline of Ptolemaic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1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lassical Common Belief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늘의 일주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의 연주운동 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면 근처에서 떠돌아다니는 행성 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서→동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성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최대이각 존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의 역행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Reception of Copernicus’ Work (1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Astronomers’ Reception: Infiltr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자들에게 ‘침투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시못할 걸작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판 전에 이미 뛰어난 천문학자로 명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중심가설에 회의적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복잡성에 실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깊이’와 ‘완전성’ 면에서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lmagest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 필적할만한 유일한 작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간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Second Ptolemy,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다수 인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또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간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Standard Refere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의 성공이 지동설의 성공을 뜻하진 않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초기 수용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구주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확한 천문학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s if ~~ :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가 도는 것’처럼’ 가정하고 계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점차 그 불합리성에 대한 감정 완화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Reinhold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Prutenic Table: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장 최신 천문학표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쩔 수 없이 사용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Reception of Copernicus’ Work (2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eople’s Widespread Clamor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널리 퍼진 불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치적 급진 성향과는 무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근거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의 물리법칙 위반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근거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성서 위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특히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신교의 성서에 대한 문자그대로의 해석에 기초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카톨릭의 대응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7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기 초 이전에는 무관심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 함축 단번에 알 수 없음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7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기 초 이후의 박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독교 스스로의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Counter Reformation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일환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주의 함축 명백해고 그 영향력 무시못하게 되었을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미 늦었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 Brahe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nic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42213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중심체계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와 수학적 동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 관측안됨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토성과 항성천구 사이의 거리 너무 커지는 것에 불만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럼에도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의 잇점 무시할 수 없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결국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자 시점 바꾼 절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와 친숙하게 해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체계의 부조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중심과 행성의 중심의 차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물리적 메커니즘 해명의 어려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개념 파괴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718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 Brahe 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Skillful Obser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밀하고 안정적인 관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신 자료 업데이트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뢰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성과 혜성의 관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상계의 현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주시차 측정안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사이를 돌아다니는 혜성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 개념 파괴에 일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하늘의 안정성 파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이러한 증거들이 코페르니쿠스체계를 지지하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직접적이진 않지만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전통적인 우주 파괴함으로써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Yohannes Kepler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aws of Mar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두가지 법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타원궤도의 법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면적속도일정의 법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 발견을 위한 요건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전에 코페르니쿠스주의자여야 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브라헤의 정밀한 자료 필요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조화로운 수학적 체계에 대한 믿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원동력으로서의 태양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의 원래 형식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둘은 함께 발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9592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Yohannes Kepler 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Third La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금은 버려진 법칙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087800" cy="357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08720" y="2708280"/>
            <a:ext cx="27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다른 여타의 법칙발견을 위한 노력과 제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법칙 발견을 위한 노력은 동등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그것 없이는 제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법칙도 발견 불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Galileo Galilei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망원경과 하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불완전성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성의 위성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달 해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크기와 위상 변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3895560" cy="3017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42920" y="5516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수성 제외하면 심리적 설명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 (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쩌면 수성도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).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사후적 설명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반인들에게 엄청난 호소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48243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2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lanet’s Retrograde Mo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08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(한)한솔체B"/>
              <a:ea typeface="(한)한솔체B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6337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3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Basic Form and Func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4653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찍부터 사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g. Apollonius &amp; Hipparchus (BC 3-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명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와의 거리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밝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의 시기와 위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Powerful &amp; Economical Explan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095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3)</a:t>
            </a:r>
            <a:br>
              <a:rPr sz="3400"/>
            </a:br>
            <a:r>
              <a:rPr b="0" lang="ko-KR" sz="25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ercury’s deviation from one trip to the next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면 일주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평균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 주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116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번 회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348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&lt;365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73436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1)</a:t>
            </a:r>
            <a:br>
              <a:rPr sz="3800"/>
            </a:br>
            <a:r>
              <a:rPr b="0" lang="en-US" sz="26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one-epicycle &amp; one-deferent system’s problem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미세조정이 필요한 문제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최대이각이 항상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5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가 아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 주기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일주면과 황도면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운동 각속도의 주기적 변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춘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점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춘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6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차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문제해결을 위한 프톨레마이오스의 수학적 도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, eccentric &amp; equan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925040" cy="295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inor epicycle: Basic Form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501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Minor epicycle: westward (b) one revolution(sun) (c) two revolu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a3b2c1"/>
                </a:solidFill>
                <a:latin typeface="(한)한솔체B"/>
                <a:ea typeface="(한)한솔체B"/>
              </a:rPr>
              <a:t>6days lon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3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inor epicycle: Planet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69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2:25:34Z</dcterms:created>
  <dc:creator>user</dc:creator>
  <dc:description/>
  <dc:language>en-US</dc:language>
  <cp:lastModifiedBy>user</cp:lastModifiedBy>
  <dcterms:modified xsi:type="dcterms:W3CDTF">2006-04-17T09:24:12Z</dcterms:modified>
  <cp:revision>11</cp:revision>
  <dc:subject/>
  <dc:title>The Copernican Revolution Planetary Astronomy in the Development of Western Thought</dc:title>
</cp:coreProperties>
</file>